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FCA-73DA-43BB-8430-9F0F03CA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B68-4508-4541-BE46-8D58F6A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ED0-4FF1-436A-A8D0-6022DB38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A76-2DD0-498B-A582-AA39EFB3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296EF-C5EA-4482-9AFD-6348C428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BA06F-7E6D-4A88-A65B-136309C3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187AE-D993-4992-8572-4F79AC81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9A25-8F28-4A7E-ACED-2D87D03D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1F2B4-9014-4158-849A-AB3E237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9332E-5A50-456A-A2DB-E984AE66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42E4D-BF07-4183-A7E5-8B14D48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A09-46E6-4D28-B009-AEBABBA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4757-A252-4938-98B5-E960950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FB889-7B3A-4322-9911-5EAE7781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C9678-850A-41D0-B07B-0AEEC05B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7035-621C-4856-8B10-83B495CF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E2EA-6082-4BA4-A794-1DE2A8B3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BC4-076F-42C4-BE12-9569E614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656-C46C-4C4C-88E3-247052F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25E-9B13-451D-B332-D410FA7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CCC-4DFF-464F-9023-A3F979C8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B86-AA36-4EB2-8445-3548967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2D8-1E91-46A0-BDAE-8CA3915E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A2A-4617-47E7-AD64-C6F3812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1AE6B1-7CCA-4C1F-9F14-4D43A4744E1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D4208F-581B-4E5E-BA81-C4AFB9EE377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ЗЕОЛОГИЗ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ить за нос -…………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уть губы - …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ть баклуши - 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усить язык - 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рубить на носу - 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евать носом -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еиваться как дым -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вать стрекача -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75520" y="1844640"/>
            <a:ext cx="28684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55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305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455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765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92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1085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И ВИД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исовать              смотре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опить                    люб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удиться                 надув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етить                     построи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ь                          писать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ить                   изда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меяться                    слом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1341360"/>
            <a:ext cx="31431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235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345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475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496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гол – самая огнепышущая, самая живая часть речи. В глаголе струится самая алая, самая свежая, артериальная кровь языка. Да ведь и назначение глагола – выражать само действие!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.Юг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0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694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694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94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032000" cy="5472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ридумать небольшую сказку о стране Глаголии и её жителях, используя глаголы и определяя их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 картинкам на странице 112 (упр.644) придумать предложения и определить вид глаго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04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6:20:59Z</dcterms:created>
  <dc:creator>olga</dc:creator>
  <dc:description/>
  <dc:language>en-US</dc:language>
  <cp:lastModifiedBy>1</cp:lastModifiedBy>
  <dcterms:modified xsi:type="dcterms:W3CDTF">2009-04-28T15:56:26Z</dcterms:modified>
  <cp:revision>3</cp:revision>
  <dc:subject/>
  <dc:title>ФРАЗЕОЛОГИЗМЫ</dc:title>
</cp:coreProperties>
</file>