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1EB-95D1-4DC5-B1EB-262D64D3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E84-B9DB-4977-A840-E58F227C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DB0-84E9-4D0D-B4BC-29249CD2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D54-8E60-4425-A6E3-73CA9FDA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E5839-7F46-4A40-B14B-7E22DA28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48AD2-A5B5-43BF-8C02-21CE331E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69FA8-C802-42F3-B09C-7766A8CC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087E7-777C-45AC-B379-894330D0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46A85-019B-4D01-9392-006C93BC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2E5A1-7EC1-485B-B46A-F18EA1DB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C143D-DB42-41DB-8745-71EBFADF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267-1348-406E-88BF-5271B161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3F270-7B83-444F-9769-2CEBDC0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DA6C9-8B6B-4ACF-B656-D881CF3B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F657C-BC51-4A45-99B7-CEAFD4DC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23595-CFCC-4AD6-9199-3B48C7CC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971E7-2D49-4E44-8BFA-87A87F21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065-F4A6-431B-A539-80045DB7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342-2A70-4848-9B36-4EDF615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83D-7AAA-4DFE-B7E6-EAA2DE1C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A07-DC61-4861-9633-EEDDF3D6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6C9-D145-453A-9313-B541B92E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ECA-F2E2-4EE9-9914-9F03A53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635-75C4-4B0D-9431-F05B948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FCD6-86D3-44D8-9463-A4B81BF3B1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B469-DAF5-47AD-BD34-06D9D95888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90;&#1077;&#1089;&#1090;%20&#1082;%20&#1090;&#1077;&#1084;&#1077;.ppt" TargetMode="Externa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4000" y="2349000"/>
            <a:ext cx="8820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е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мер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шё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го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400800" cy="107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Убери лишне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Рисунок1ае"/>
          <p:cNvPicPr/>
          <p:nvPr/>
        </p:nvPicPr>
        <p:blipFill>
          <a:blip r:embed="rId1"/>
          <a:stretch/>
        </p:blipFill>
        <p:spPr>
          <a:xfrm>
            <a:off x="4427640" y="2708280"/>
            <a:ext cx="4413240" cy="35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Рисунок1"/>
          <p:cNvPicPr/>
          <p:nvPr/>
        </p:nvPicPr>
        <p:blipFill>
          <a:blip r:embed="rId1"/>
          <a:stretch/>
        </p:blipFill>
        <p:spPr>
          <a:xfrm>
            <a:off x="1619280" y="2205000"/>
            <a:ext cx="6048360" cy="4464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Тема урока: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ВИДЫ ГЛАГОЛ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ОПРОС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УРОК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0d7bfbb42edcbbc148491e5164e3ef67"/>
          <p:cNvPicPr/>
          <p:nvPr/>
        </p:nvPicPr>
        <p:blipFill>
          <a:blip r:embed="rId1"/>
          <a:stretch/>
        </p:blipFill>
        <p:spPr>
          <a:xfrm>
            <a:off x="5148360" y="1989000"/>
            <a:ext cx="3778200" cy="4248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26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.Скольк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идов глагол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. Как различи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иды глагол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ИДЫ ГЛАГО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ОВЕРШЕННЫЙ ВИД    СОВЕРШЕННЫЙ ВИ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то делать?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то сдела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решать)                          (решить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0d7bfbb42edcbbc148491e5164e3ef67"/>
          <p:cNvPicPr/>
          <p:nvPr/>
        </p:nvPicPr>
        <p:blipFill>
          <a:blip r:embed="rId2"/>
          <a:stretch/>
        </p:blipFill>
        <p:spPr>
          <a:xfrm>
            <a:off x="179280" y="4292640"/>
            <a:ext cx="388800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740a73b396965654d5e45d53b47d4e2b"/>
          <p:cNvPicPr/>
          <p:nvPr/>
        </p:nvPicPr>
        <p:blipFill>
          <a:blip r:embed="rId3"/>
          <a:stretch/>
        </p:blipFill>
        <p:spPr>
          <a:xfrm>
            <a:off x="4859280" y="4292640"/>
            <a:ext cx="380988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79280" y="1773360"/>
          <a:ext cx="8929800" cy="20872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20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0" y="1773360"/>
          <a:ext cx="9072720" cy="2089080"/>
        </p:xfrm>
        <a:graphic>
          <a:graphicData uri="http://schemas.openxmlformats.org/drawingml/2006/table">
            <a:tbl>
              <a:tblPr/>
              <a:tblGrid>
                <a:gridCol w="4716360"/>
                <a:gridCol w="4356360"/>
              </a:tblGrid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6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ИЗМИНУТК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отренируемся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71640" y="1268280"/>
            <a:ext cx="6048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7:30:35Z</dcterms:created>
  <dc:creator>1</dc:creator>
  <dc:description/>
  <dc:language>en-US</dc:language>
  <cp:lastModifiedBy>1</cp:lastModifiedBy>
  <dcterms:modified xsi:type="dcterms:W3CDTF">2009-04-15T20:08:46Z</dcterms:modified>
  <cp:revision>60</cp:revision>
  <dc:subject/>
  <dc:title>Слайд 1</dc:title>
</cp:coreProperties>
</file>